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24C9-741C-47B8-8427-EF6458217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0E6B-E96F-4A08-9BBE-7641C3683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F6D7-158A-4B40-BA54-552B75814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8CF2-9954-432B-B42E-A13029409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05A7-8952-4324-8BC3-4ECC18CC2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64BF-2284-440A-B8FC-D5EC49CBB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11CB-04CD-46B6-8955-92C09B177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7934-DC82-44A8-97DA-82F5DAF58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277C-8A9F-48E1-8410-062E9D478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241B-2BA8-4429-B67F-C79C69E51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224B-0612-4A7C-9892-81550BF9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B97B-C659-4A2A-A660-649EE64C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BB7F3-E1C2-4F55-841C-CF55DB8512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714240"/>
            <a:ext cx="7772400" cy="250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36406"/>
                </a:solidFill>
                <a:latin typeface="Calibri"/>
              </a:rPr>
              <a:t>Георгиевская</a:t>
            </a:r>
            <a:r>
              <a:rPr b="0" lang="ru-RU" sz="6000" spc="-1" strike="noStrike">
                <a:solidFill>
                  <a:srgbClr val="e36406"/>
                </a:solidFill>
                <a:latin typeface="Calibri"/>
              </a:rPr>
              <a:t> </a:t>
            </a:r>
            <a:r>
              <a:rPr b="0" lang="ru-RU" sz="6000" spc="-1" strike="noStrike">
                <a:solidFill>
                  <a:srgbClr val="e36406"/>
                </a:solidFill>
                <a:latin typeface="Calibri"/>
              </a:rPr>
              <a:t>ленточк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43280" y="3885840"/>
            <a:ext cx="4143600" cy="19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Час общения, посвященный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Дню Победы, 5 класс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Подготовлен учителем МОУ СОШ №20.г.Астрахан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Куренко Ольгой Валентиновно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http://www.formula-prazdnika.ru/files/images/lenta.jpg"/>
          <p:cNvPicPr/>
          <p:nvPr/>
        </p:nvPicPr>
        <p:blipFill>
          <a:blip r:embed="rId1"/>
          <a:stretch/>
        </p:blipFill>
        <p:spPr>
          <a:xfrm>
            <a:off x="1143000" y="3143160"/>
            <a:ext cx="3071880" cy="2214720"/>
          </a:xfrm>
          <a:prstGeom prst="rect">
            <a:avLst/>
          </a:prstGeom>
          <a:ln w="0">
            <a:noFill/>
          </a:ln>
        </p:spPr>
      </p:pic>
      <p:sp>
        <p:nvSpPr>
          <p:cNvPr id="44" name="Рамка 4"/>
          <p:cNvSpPr/>
          <p:nvPr/>
        </p:nvSpPr>
        <p:spPr>
          <a:xfrm>
            <a:off x="3571920" y="0"/>
            <a:ext cx="2500200" cy="428760"/>
          </a:xfrm>
          <a:prstGeom prst="pie">
            <a:avLst/>
          </a:prstGeom>
          <a:solidFill>
            <a:srgbClr val="b83d68"/>
          </a:solidFill>
          <a:ln w="1260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ezentacii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 том, насколько почетно было получить орден Святого Георгия 1-й степени, говорит, например, следующий факт. Выдающуюся награду Российской империи – орден 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Андрея Первозванного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получило более 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тысяч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человек. А орден 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Святого Георгия    1-й степен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лько 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25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человек. Среди них великие полководцы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Суворов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Кутузов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C:\Documents and Settings\ЮРА\Мои документы\Мои рисунки\2009-05-06\Scan10106.JPG"/>
          <p:cNvPicPr/>
          <p:nvPr/>
        </p:nvPicPr>
        <p:blipFill>
          <a:blip r:embed="rId1"/>
          <a:stretch/>
        </p:blipFill>
        <p:spPr>
          <a:xfrm>
            <a:off x="5072040" y="1357200"/>
            <a:ext cx="357192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нак отличия — Георгиевский Крест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еоргиевский Крест (I степени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еоргиевский Крест I степени из серебра с позолотой. На нижнем конце оборотной стороне креста — надпись: «1-я степ.». Носится на пятиугольной колодке, обтянутой шелковой, муаровой лентой с бантом цветов ордена Святого Георгия. Ширина ленты — 24 м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Содержимое 5" descr="Георгиевский Крест (I ст.)"/>
          <p:cNvPicPr/>
          <p:nvPr/>
        </p:nvPicPr>
        <p:blipFill>
          <a:blip r:embed="rId1"/>
          <a:stretch/>
        </p:blipFill>
        <p:spPr>
          <a:xfrm>
            <a:off x="928800" y="1857240"/>
            <a:ext cx="35002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еоргиевский Крест (II степени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ест из серебра с позолотой. На нижнем конце оборотной стороны креста — надпись: «2-я степ.». Носится на пятиугольной колодке, обтянутой шелковой, муаровой лентой цветов ордена Святого Георгия. Ширина ленты — 24 м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Содержимое 4" descr="Георгиевский Крест (II ст.)"/>
          <p:cNvPicPr/>
          <p:nvPr/>
        </p:nvPicPr>
        <p:blipFill>
          <a:blip r:embed="rId1"/>
          <a:stretch/>
        </p:blipFill>
        <p:spPr>
          <a:xfrm>
            <a:off x="642960" y="1643040"/>
            <a:ext cx="37148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Георгиевский Крест (III степени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рест из серебра. На нижнем конце оборотной стороны креста — надпись: «3-я степ.». Носится на пятиугольной колодке, обтянутой шелковой, муаровой лентой с бантом цветов ордена Святого Георгия. Ширина ленты — 24 мм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Содержимое 4" descr="Георгиевский Крест (III ст.)"/>
          <p:cNvPicPr/>
          <p:nvPr/>
        </p:nvPicPr>
        <p:blipFill>
          <a:blip r:embed="rId1"/>
          <a:stretch/>
        </p:blipFill>
        <p:spPr>
          <a:xfrm>
            <a:off x="785880" y="1714680"/>
            <a:ext cx="364320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Георгиевский Крест (VI степени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рест из серебра. На нижнем конце оборотной стороны креста — надпись: «4-я степ.». Носится на пятиугольной колодке, обтянутой шелковой, муаровой лентой цветов ордена Святого Георгия. Ширина ленты — 24 мм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и ношении лент без крестов используется планка высотой 8 мм, ширина ленты — 24 мм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Содержимое 4" descr="Георгиевский Крест (IV ст.)"/>
          <p:cNvPicPr/>
          <p:nvPr/>
        </p:nvPicPr>
        <p:blipFill>
          <a:blip r:embed="rId1"/>
          <a:stretch/>
        </p:blipFill>
        <p:spPr>
          <a:xfrm>
            <a:off x="500040" y="1643040"/>
            <a:ext cx="378612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рден Отечественной вой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самый разгар битвы с фашистами в 1942   году был учрежден орден Отечественной войны. На нем тоже есть  Георгиевская лента – как символ связи с русской боевой традици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C:\Documents and Settings\ЮРА\Мои документы\Мои рисунки\Order_gpw1_rib.png"/>
          <p:cNvPicPr/>
          <p:nvPr/>
        </p:nvPicPr>
        <p:blipFill>
          <a:blip r:embed="rId1"/>
          <a:stretch/>
        </p:blipFill>
        <p:spPr>
          <a:xfrm>
            <a:off x="785880" y="2357280"/>
            <a:ext cx="1143000" cy="1357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C:\Documents and Settings\ЮРА\Мои документы\Мои рисунки\2009-05-06\150px-Orden_Ot_voine.jpg"/>
          <p:cNvPicPr/>
          <p:nvPr/>
        </p:nvPicPr>
        <p:blipFill>
          <a:blip r:embed="rId2"/>
          <a:stretch/>
        </p:blipFill>
        <p:spPr>
          <a:xfrm>
            <a:off x="2143080" y="2286000"/>
            <a:ext cx="20718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ины Александра Невского, дружинники Дмитрия Донского, солдаты Суворова и миллионы советских солдат шли в бой за Родину, за честь и свободу своей земли. И они ПОБЕДИЛИ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C:\Documents and Settings\ЮРА\Мои документы\Мои рисунки\2009-05-06\Scan10107.JPG"/>
          <p:cNvPicPr/>
          <p:nvPr/>
        </p:nvPicPr>
        <p:blipFill>
          <a:blip r:embed="rId1"/>
          <a:stretch/>
        </p:blipFill>
        <p:spPr>
          <a:xfrm>
            <a:off x="4648320" y="1643040"/>
            <a:ext cx="403848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кция «Георгиевская ленточка» была задумана и осуществляется «РИА Новости» и «Студенческой общиной» при поддержке Правительства города Москв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елью этого мероприятия, по мнению инициаторов данного проекта, является создание атмосферы всеобщего праздника, выражение уважения и гордости за наших ветеранов. Это не только дань памяти тем, кто пал на поле боя, но и благодарность людям, прошедшим через ВОЙН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Рисунок 4" descr="http://www.formula-prazdnika.ru/files/images/lenta.jpg"/>
          <p:cNvPicPr/>
          <p:nvPr/>
        </p:nvPicPr>
        <p:blipFill>
          <a:blip r:embed="rId1"/>
          <a:stretch/>
        </p:blipFill>
        <p:spPr>
          <a:xfrm>
            <a:off x="2500200" y="285840"/>
            <a:ext cx="407196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еоргиевские ленты имеют смысловую символику. Их цветовое исполнение — чёрный и оранжевый цвет — означают «дым и пламень», характерные для военного времени. Георгиевские ленты олицетворяют подвиг русского воина на полях сражений, в тылу и на передов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Содержимое 4" descr="http://www.formula-prazdnika.ru/files/images/lenta.jpg"/>
          <p:cNvPicPr/>
          <p:nvPr/>
        </p:nvPicPr>
        <p:blipFill>
          <a:blip r:embed="rId1"/>
          <a:stretch/>
        </p:blipFill>
        <p:spPr>
          <a:xfrm>
            <a:off x="4929120" y="1857240"/>
            <a:ext cx="35006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Эта, еще относительно молодая, достаточно новая символика пробуждает у людей, в первую очередь, патриотические чувства, преисполняя их чувством гордости за свою страну-победительницу. Помимо всего вышесказанного, яркие ленточки вызывают весёлые, праздничные эмоции, дарят ощущение незыблемости и единств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кция "Георгиевская ленточка-2009" пройдет с 24 апреля по 9 ма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ероприятие приурочено к 64-й годовщине Победы в Великой Отечественной войне. В этом году акция будет проходить пятый год подряд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Рисунок 6" descr="http://www.formula-prazdnika.ru/files/images/lenta.jpg"/>
          <p:cNvPicPr/>
          <p:nvPr/>
        </p:nvPicPr>
        <p:blipFill>
          <a:blip r:embed="rId1"/>
          <a:stretch/>
        </p:blipFill>
        <p:spPr>
          <a:xfrm>
            <a:off x="2214720" y="357120"/>
            <a:ext cx="271440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Documents and Settings\ЮРА\Мои документы\Мои рисунки\left_bg.jpg"/>
          <p:cNvPicPr/>
          <p:nvPr/>
        </p:nvPicPr>
        <p:blipFill>
          <a:blip r:embed="rId1"/>
          <a:stretch/>
        </p:blipFill>
        <p:spPr>
          <a:xfrm>
            <a:off x="571680" y="214200"/>
            <a:ext cx="7858080" cy="59119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57400" y="274680"/>
            <a:ext cx="4071960" cy="279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Calibri"/>
              </a:rPr>
              <a:t>9 Мая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Георгиевская лента -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двухцветная лента к ордену Святого Георгия, “За победу над Германией” или как ее еще называют “Гвардейская лента”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имвол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еоргиевская ленточк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олучила свое название от ордена Святого Георгия. Этот орден был учрежден в России в 1769 году. Он назван по имени святого Георгия, покровителя русского воинст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6" descr="http://www.formula-prazdnika.ru/files/images/lenta.jpg"/>
          <p:cNvPicPr/>
          <p:nvPr/>
        </p:nvPicPr>
        <p:blipFill>
          <a:blip r:embed="rId1"/>
          <a:stretch/>
        </p:blipFill>
        <p:spPr>
          <a:xfrm>
            <a:off x="642960" y="1928880"/>
            <a:ext cx="36432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Святой Георгий – великомученик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н был замучен и убит врагами христианства – язычниками. За мужество и за духовную победу над мучителями, которые не смогли заставить   его отказаться от христианства, а также за чудодейственную помощь людям в опасности святого Георгия называют еще Победоносц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C:\Documents and Settings\ЮРА\Мои документы\Мои рисунки\2009-05-06\Копия Scan10104.JPG"/>
          <p:cNvPicPr/>
          <p:nvPr/>
        </p:nvPicPr>
        <p:blipFill>
          <a:blip r:embed="rId1"/>
          <a:stretch/>
        </p:blipFill>
        <p:spPr>
          <a:xfrm>
            <a:off x="714240" y="1643040"/>
            <a:ext cx="378648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713880"/>
            <a:ext cx="403848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иконах святой Георгий изображается сидящим на белом коне и поражающим копьем змея. Это изображение основано на предании     и относится к посмертным чудесам святого великомученика Георгия.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:\Documents and Settings\ЮРА\Мои документы\Мои рисунки\2009-05-06\Scan10103.JPG"/>
          <p:cNvPicPr/>
          <p:nvPr/>
        </p:nvPicPr>
        <p:blipFill>
          <a:blip r:embed="rId1"/>
          <a:stretch/>
        </p:blipFill>
        <p:spPr>
          <a:xfrm>
            <a:off x="4643280" y="642960"/>
            <a:ext cx="3929400" cy="54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Documents and Settings\ЮРА\Мои документы\Мои рисунки\2009-05-06\Scan10104.JPG"/>
          <p:cNvPicPr/>
          <p:nvPr/>
        </p:nvPicPr>
        <p:blipFill>
          <a:blip r:embed="rId1"/>
          <a:stretch/>
        </p:blipFill>
        <p:spPr>
          <a:xfrm>
            <a:off x="1763640" y="0"/>
            <a:ext cx="561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рден Святого Георг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России очень любили и почитали  святого великомученика  Георгия. Поэтому дали его имя самому  почетному военному ордену. Этим орденом награждались только офицеры и генералы за личные боевые заслуг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Documents and Settings\ЮРА\Мои документы\Мои рисунки\2009-05-06\Scan10105.JPG"/>
          <p:cNvPicPr/>
          <p:nvPr/>
        </p:nvPicPr>
        <p:blipFill>
          <a:blip r:embed="rId1"/>
          <a:stretch/>
        </p:blipFill>
        <p:spPr>
          <a:xfrm>
            <a:off x="428760" y="1785960"/>
            <a:ext cx="392904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4d1d"/>
                </a:solidFill>
                <a:latin typeface="Calibri"/>
              </a:rPr>
              <a:t>Орденом награждалис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Те, кто «лично предводительствуя войском, одержит над неприятелем, в значительных силах состоящим, полную победу, последствием которой будет совершенное его уничтожение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«лично предводительствуя войском, возьмет крепость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 взятие неприятельского знамени, захват в плен главнокомандующего неприятельского войска и другие выдающиеся подвиг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9680" y="272880"/>
            <a:ext cx="29653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рядок награждения орден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вый раз выдавалась низшая, 4 ступень, в следующий раз более высокая 3-я, далее 2-я и, наконец, совершивший четвертый выдающийся подвиг мог быть представлен к награждению орденом Святого Георг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-й степен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C:\Documents and Settings\ЮРА\Мои документы\Мои рисунки\2009-05-06\Scan10105.JPG"/>
          <p:cNvPicPr/>
          <p:nvPr/>
        </p:nvPicPr>
        <p:blipFill>
          <a:blip r:embed="rId1"/>
          <a:stretch/>
        </p:blipFill>
        <p:spPr>
          <a:xfrm>
            <a:off x="500040" y="2071800"/>
            <a:ext cx="300024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15:09:46Z</dcterms:created>
  <dc:creator>Юра</dc:creator>
  <dc:description/>
  <dc:language>en-US</dc:language>
  <cp:lastModifiedBy>Admin</cp:lastModifiedBy>
  <dcterms:modified xsi:type="dcterms:W3CDTF">2012-04-19T20:07:59Z</dcterms:modified>
  <cp:revision>26</cp:revision>
  <dc:subject/>
  <dc:title>Слайд 1</dc:title>
</cp:coreProperties>
</file>